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19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19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783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783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7832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1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7832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9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832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eoanalysis.org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396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GIAS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415296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eological Image Analysis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o use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© Ciaran Beggan and Christopher Ham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ebruary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ww.geoanalysis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8632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unning the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you are using the stand alone code (i.e. not running in MAT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uble click on ‘GIAS_v03.ex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opens a MS-DOS window initially and then the GIAS GUI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GIAS directory to your path (along with the skdata direc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command line type: GIAS_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pening an i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5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ck on the ‘Load Image’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the required image file (tiff, jpeg, p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8190" t="7096" r="7009" b="67353"/>
          <a:stretch/>
        </p:blipFill>
        <p:spPr>
          <a:xfrm>
            <a:off x="687240" y="1477800"/>
            <a:ext cx="7723440" cy="158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119320" y="1704960"/>
            <a:ext cx="905040" cy="371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7875" t="6383" r="6930" b="44090"/>
          <a:stretch/>
        </p:blipFill>
        <p:spPr>
          <a:xfrm>
            <a:off x="692280" y="3705120"/>
            <a:ext cx="7753320" cy="28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3666960" y="4351320"/>
            <a:ext cx="1105200" cy="371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980" t="7054" r="7009" b="67311"/>
          <a:stretch/>
        </p:blipFill>
        <p:spPr>
          <a:xfrm>
            <a:off x="476280" y="3351240"/>
            <a:ext cx="8191440" cy="15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cessing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relevant detection parameters and output parameters (e.g. pixel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the Help files for information on th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‘Process’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approximately 15 seconds to process test image LAK_t_23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0600" y="3876840"/>
            <a:ext cx="905040" cy="371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sults: Image Analysis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3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the results for the Imag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7815" t="3334" r="6704" b="7554"/>
          <a:stretch/>
        </p:blipFill>
        <p:spPr>
          <a:xfrm>
            <a:off x="696960" y="1600200"/>
            <a:ext cx="7748640" cy="5049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Results: Nearest Neighbor T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42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are the results for the Nearest Neigh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7775" t="3552" r="6526" b="7777"/>
          <a:stretch/>
        </p:blipFill>
        <p:spPr>
          <a:xfrm>
            <a:off x="703440" y="1611360"/>
            <a:ext cx="7697520" cy="497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aving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save all the graph calculations using the ‘Save Results’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rites an Excel-readable tab-delimited file named from the output filename box: LAK_t_23c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7975" t="7046" r="7004" b="67311"/>
          <a:stretch/>
        </p:blipFill>
        <p:spPr>
          <a:xfrm>
            <a:off x="476280" y="2473200"/>
            <a:ext cx="8191440" cy="1544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2190600" y="3298680"/>
            <a:ext cx="905040" cy="371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sults in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65320"/>
            <a:ext cx="267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results are written to two separate files in the local working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is f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mage analy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stics, the other for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arest neighb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4636" t="936" r="38010" b="4749"/>
          <a:stretch/>
        </p:blipFill>
        <p:spPr>
          <a:xfrm>
            <a:off x="3487680" y="1000080"/>
            <a:ext cx="5432400" cy="5583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5726160" y="2122560"/>
            <a:ext cx="1485720" cy="371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ther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e the Help files for advice on how the other options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code stops working, the best thing to do is to close the programme and restar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is persistently crashing, check the image format is correct and that you have set the path in Matlab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ll else fails, contact us via th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eoanalysis.or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0:55:00Z</dcterms:created>
  <dc:creator>C Beggan</dc:creator>
  <dc:description/>
  <dc:language>en-US</dc:language>
  <cp:lastModifiedBy>C Beggan</cp:lastModifiedBy>
  <dcterms:modified xsi:type="dcterms:W3CDTF">2009-02-20T15:32:40Z</dcterms:modified>
  <cp:revision>7</cp:revision>
  <dc:subject/>
  <dc:title>Slide 1</dc:title>
</cp:coreProperties>
</file>